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8E33E-9B2A-4FB2-9375-DF07F2D88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905B0-4A75-483A-B9BE-770E09DDA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C4595-D311-4D42-AA62-EEB59FF9E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A11BA-06E9-42B0-8E8C-FB7325961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5E3C0-05F0-4211-9F7C-18CA8C8B2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EF7E1-4763-4F47-8BDD-FCC4A6040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736E3-360F-4B6C-A38C-B4325A7F6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14E14-D876-4E84-A701-E0B84B4CF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EDB10-BD83-4411-888D-A090D1DA3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151EE-36E4-4D1B-B470-D9D70C5B1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8BB13-D24D-45F9-B483-0E6DFA437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14F7F-B33F-44BB-8329-77E514833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20A03-7863-4DC2-B80F-572E5EC7A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9EAFB-3484-48F6-854A-A17DB140C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3A8A0-D60C-4A90-9331-1C846B71F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63FC6-1411-4364-A2CF-342152AC0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5FC80-7A34-47FC-A2F8-10F45BD81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A8DC8-0553-4982-94B1-5EEA8653E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1F06A-CFE9-405F-A942-D1B47B787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9CE35-BB77-4DF2-95B7-97F0D9E65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750EC-3973-484D-A9FD-196EFB5D3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DC00C-3535-40BC-B713-39773A483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1767A-3310-46A6-B4DE-BC3FE99D5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793D8-CD4C-461C-B36D-6E582651F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217B3-D4FA-4D7B-B2B9-B76CC16E7304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15DE3-28C1-4A13-A1D6-D64D96BBD12D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Tahoma"/>
              </a:rPr>
              <a:t>AINEVALINTOJEN PERUSTEITA: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alits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–kiinnostava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jatkoa ajatell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sujuu mukavasti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PALAUTUS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Tahoma"/>
              </a:rPr>
              <a:t>Palauta kortti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Tahoma"/>
              </a:rPr>
              <a:t>	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Tahoma"/>
              </a:rPr>
              <a:t>ryhmänohjaajallesi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VIIMEISTÄÄN 15.3.2007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VALINTOJEN TEKO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Vaikutusta: valintojen pohjalta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cc66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lukuvuoden kurssitarjotin ja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cc66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lukujärjestyspaikat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JATKO: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fi-FI" sz="4000" spc="-1" strike="noStrike">
                <a:solidFill>
                  <a:srgbClr val="ffffff"/>
                </a:solidFill>
                <a:latin typeface="Tahoma"/>
              </a:rPr>
              <a:t>Jaksojärjestyksen tarkistus (päällekkäisyydet??) – mahdollisuus tehdä muutoksia valintoihin rehtorin listaa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fi-FI" sz="4000" spc="-1" strike="noStrike">
                <a:solidFill>
                  <a:srgbClr val="ffffff"/>
                </a:solidFill>
                <a:latin typeface="Tahoma"/>
              </a:rPr>
              <a:t>Oma henk.koht. lukujärjestys annetaan joka jaksoon</a:t>
            </a:r>
            <a:r>
              <a:rPr b="0" lang="fi-FI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AINEVALINTOJEN PERUSTEITA: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Mielessäsi 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Tahoma"/>
              </a:rPr>
              <a:t>lähitavoite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ylioppilaskirjoitukset: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mielellään kaikki kurssit ko. aineesta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2.vsk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: suunnitelmat yo-kirjoitusajoista vaikuttamaan heti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AINEVALINTOJEN PERUSTEITA: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000" spc="-1" strike="noStrike">
                <a:solidFill>
                  <a:srgbClr val="ffffff"/>
                </a:solidFill>
                <a:latin typeface="Tahoma"/>
              </a:rPr>
              <a:t>Mielessäsi </a:t>
            </a:r>
            <a:r>
              <a:rPr b="0" lang="fi-FI" sz="4000" spc="-1" strike="noStrike" u="sng">
                <a:solidFill>
                  <a:srgbClr val="ffffff"/>
                </a:solidFill>
                <a:uFillTx/>
                <a:latin typeface="Tahoma"/>
              </a:rPr>
              <a:t>tulevaisuustavoite</a:t>
            </a:r>
            <a:r>
              <a:rPr b="0" lang="fi-FI" sz="4000" spc="-1" strike="noStrike">
                <a:solidFill>
                  <a:srgbClr val="ffffff"/>
                </a:solidFill>
                <a:latin typeface="Tahoma"/>
              </a:rPr>
              <a:t>  suunnitellut opiskelu-ura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000" spc="-1" strike="noStrike">
                <a:solidFill>
                  <a:srgbClr val="ffffff"/>
                </a:solidFill>
                <a:latin typeface="Tahoma"/>
              </a:rPr>
              <a:t>- mitä oppiaineita ehdottomasti tarvitaan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000" spc="-1" strike="noStrike">
                <a:solidFill>
                  <a:srgbClr val="ffffff"/>
                </a:solidFill>
                <a:latin typeface="Tahoma"/>
              </a:rPr>
              <a:t>-mistä hyötyä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000" spc="-1" strike="noStrike">
                <a:solidFill>
                  <a:srgbClr val="ffffff"/>
                </a:solidFill>
                <a:latin typeface="Tahoma"/>
              </a:rPr>
              <a:t>- (valintaoppaat, netti  kts. lukion oposivujen linkit)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AINEVALINTOJEN PERUSTEITA: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UOMI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Muista, että kannattaa pitää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useita vaihtoehtoja jatko-opintojen suhteen avoinna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AINEVALINTAKORTTI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000" spc="-1" strike="noStrike">
                <a:solidFill>
                  <a:srgbClr val="ffffff"/>
                </a:solidFill>
                <a:latin typeface="Tahoma"/>
              </a:rPr>
              <a:t>Koko lukioajan yksi oma kortti 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fi-FI" sz="4000" spc="-1" strike="noStrike">
                <a:solidFill>
                  <a:srgbClr val="ffffff"/>
                </a:solidFill>
                <a:latin typeface="Tahoma"/>
              </a:rPr>
              <a:t>(opon tallessa)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000" spc="-1" strike="noStrike">
                <a:solidFill>
                  <a:srgbClr val="ffffff"/>
                </a:solidFill>
                <a:latin typeface="Tahoma"/>
              </a:rPr>
              <a:t>Valinnat korttiin huomioidaan lukuvuosi kerrallaan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AINEVALINTAKORTTI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ortin kurssinumerot tarkoittavat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Pakolliset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kurssit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vaalealla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hjall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Valtakunnalliset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syventävät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kevyesti tummennetulla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pohjall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Koulukohtaiset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syventävät ja soveltavat kurssit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vahvasti tummennetulla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pohjall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Puolikkaat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kurssit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katkoviivalla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kehystet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AINEVALINTAKORTTI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Poikkeamat numerojärjestyksestä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kurssien tärkeyden merkki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VALINTOJEN TEKO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äytä/tarkista alkutiedot.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Vain seuraavan lukuvuoden valinnat rehtorill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VALINTOJEN TEKO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* Rengasta lyijykynällä - hieman enemmän kuin alin määrä, kosk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muutoshaluissa vaikea ”parsia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aina ei kurssi toteud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päällekkäisyyde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* Voi ottaa sopivia muilta vuosilt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* Lopuksi tarkista kurssimäärä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ja edellisvuoden kurssitulo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0T07:31:32Z</dcterms:created>
  <dc:creator>ope</dc:creator>
  <dc:description/>
  <dc:language>en-US</dc:language>
  <cp:lastModifiedBy>ope</cp:lastModifiedBy>
  <dcterms:modified xsi:type="dcterms:W3CDTF">2007-02-20T14:49:12Z</dcterms:modified>
  <cp:revision>13</cp:revision>
  <dc:subject/>
  <dc:title>AINEVALINTOJEN PERUSTEITA:</dc:title>
</cp:coreProperties>
</file>